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17549"/>
        <c:axId val="19312635"/>
      </c:barChart>
      <c:catAx>
        <c:axId val="196175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12635"/>
        <c:crosses val="autoZero"/>
        <c:auto val="1"/>
        <c:lblAlgn val="ctr"/>
        <c:lblOffset val="100"/>
        <c:noMultiLvlLbl val="0"/>
      </c:catAx>
      <c:valAx>
        <c:axId val="193126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175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8D6C-4F65-4B98-BFD2-EA664647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1957-3F95-47E7-8BBD-F41913AB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4AFE-8311-42CF-A666-6EEC062D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B1FC-B330-4C44-9EDF-8978F408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23E2-6AD5-4246-A784-A7BA0D9E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194B-8AC8-43F1-B7C5-971BA7FD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517F-4D99-40B6-A4B2-0356C35C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A5BF-31CD-4499-BACF-55A24971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7714-D1E5-4952-9AAA-928C434A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B11D-15C3-42D9-ADCC-B3872B33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CA26-2D64-40D7-B111-7D9F0D2E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6872-F09D-4282-A2C5-DF30B13F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576F1-FB5E-4463-8777-0E18325A30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