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84147"/>
        <c:axId val="38516816"/>
      </c:barChart>
      <c:catAx>
        <c:axId val="55784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16816"/>
        <c:crosses val="autoZero"/>
        <c:auto val="1"/>
        <c:lblAlgn val="ctr"/>
        <c:lblOffset val="100"/>
        <c:noMultiLvlLbl val="0"/>
      </c:catAx>
      <c:valAx>
        <c:axId val="38516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84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D12-6827-4450-B06E-45477962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468-7E14-4EE3-9628-79C8AE61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C23-8FAA-4AC8-93FF-7AC22CC8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54E-22F9-4EB8-B262-1D46D860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83D-495E-428D-985C-6E7BC34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FB2-C591-4A83-A72B-03ABD4A0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1D8-0BC4-44DE-80AD-C35EDAEB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DF7-2BEF-4157-B523-9FDA721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2F2-5453-447C-9E77-CB172C4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CAD-E50C-45DD-98E9-04070BE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436-DC9A-45DB-91AC-ABF140D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F37-6937-4FF8-B6C8-CCC9F83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5A050-2376-4092-8978-90A360FE0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