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8710205"/>
        <c:axId val="24133543"/>
      </c:barChart>
      <c:catAx>
        <c:axId val="9871020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133543"/>
        <c:crosses val="autoZero"/>
        <c:auto val="1"/>
        <c:lblAlgn val="ctr"/>
        <c:lblOffset val="100"/>
        <c:noMultiLvlLbl val="0"/>
      </c:catAx>
      <c:valAx>
        <c:axId val="2413354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71020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0E2C-BE5F-438B-A93C-8BF33E487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9326-CA08-4AE5-B674-F2588FA4D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9A5D-BD17-406B-925C-10E37400C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E7A2-0B59-4909-B4C8-A730922D3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4854-306A-44BB-B9B3-44AB220A2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8DB4-9212-499B-A134-16DE117F7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265B-3F3D-4CFA-AAB3-269D7E634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5CD1-C73C-4193-B8EA-C7F0E3534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3D40-B6CB-438D-ADF7-2D9304C1A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509C-DA38-4A08-8227-E5FA95D23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4C24-21DA-4C74-AEFC-9155236BF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1D24-1D91-4971-B864-FC0F192C2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2E9AD9-A7A5-4DE7-A588-9CEFC3213E5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