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31017"/>
        <c:axId val="86422909"/>
      </c:barChart>
      <c:catAx>
        <c:axId val="70310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422909"/>
        <c:crosses val="autoZero"/>
        <c:auto val="1"/>
        <c:lblAlgn val="ctr"/>
        <c:lblOffset val="100"/>
        <c:noMultiLvlLbl val="0"/>
      </c:catAx>
      <c:valAx>
        <c:axId val="864229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310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8DB9-109E-4DD0-A32D-70AEF8BF4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5A24-10F2-4F2F-B24D-32E6CA30A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3A40-65D5-4E33-A525-45A63C995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86BC-5828-4588-9F1F-E2C1B2902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E8AF-8031-4228-9852-B6B7E1D61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1101-795C-4D4B-9519-C51CE67F1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2B31-AD49-4CDB-B801-B62808148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2A35-0762-4184-81DB-81EA0542D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9BAE-A21A-4659-89F3-AF595E93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E913-F23B-4EB3-B013-F42DFB57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E646-33D6-4110-8CB7-D27B2B8D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2B0E-A879-41DE-81D1-6602FFE3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4D6F5B-620D-48A6-9D54-D3EBB1B1B1F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