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99367"/>
        <c:axId val="55927693"/>
      </c:barChart>
      <c:catAx>
        <c:axId val="68299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27693"/>
        <c:crosses val="autoZero"/>
        <c:auto val="1"/>
        <c:lblAlgn val="ctr"/>
        <c:lblOffset val="100"/>
        <c:noMultiLvlLbl val="0"/>
      </c:catAx>
      <c:valAx>
        <c:axId val="55927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99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7C6-8F60-49C8-A4D4-B0B3CDAC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8CF5-1408-46DF-B26A-AE7CF9AB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7BC6-31FC-40F6-818B-8F4C869F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58B4-84D7-4F30-A4B1-A0A47933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848-77B2-4C7E-8627-1D81AD46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760-5CCD-4291-8D16-6D0A1B8A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151-3CD0-4D43-8624-8C36B6E8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F38D-9B82-42FD-95D2-46863B64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E0E-1645-4EE0-8ACB-8CFA625E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914-2680-4D03-AA6B-2F728D88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9B9-9CD7-4B6B-A6EB-5171A7FC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813-3693-4499-85C8-7199C509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C284E-600D-4DD8-9463-FD76377853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