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10668"/>
        <c:axId val="11047429"/>
      </c:barChart>
      <c:catAx>
        <c:axId val="96810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47429"/>
        <c:crosses val="autoZero"/>
        <c:auto val="1"/>
        <c:lblAlgn val="ctr"/>
        <c:lblOffset val="100"/>
        <c:noMultiLvlLbl val="0"/>
      </c:catAx>
      <c:valAx>
        <c:axId val="11047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10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B20-8B22-4511-9551-1363FB1C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381-AFB6-4A70-AA44-C0ABEC0F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446-7A2B-42EE-99C2-A65198E8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F2F-7FB9-447D-B0F8-6DDDA49A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4DE-31D8-483B-8863-C6AF08D5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344-8BAC-4C25-8DDA-AED63839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B4D-E045-453A-8532-10092BC2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EF3-7615-4D67-A288-BD7C92B8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364-070E-400D-8CC7-A58A73B4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435-CAF2-4BCF-80D8-AB39432A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537-87CC-4728-BEC7-2B4A74BC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365-98DE-4073-A3F4-963C04E7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A983F-9630-4E5E-AD30-662E14F794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