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5242"/>
        <c:axId val="99252409"/>
      </c:barChart>
      <c:catAx>
        <c:axId val="69915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2409"/>
        <c:crosses val="autoZero"/>
        <c:auto val="1"/>
        <c:lblAlgn val="ctr"/>
        <c:lblOffset val="100"/>
        <c:noMultiLvlLbl val="0"/>
      </c:catAx>
      <c:valAx>
        <c:axId val="99252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5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747-D3BD-42A4-A44E-E93B8D98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16C-D176-46A1-9229-E9866520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95D-7538-4781-8F31-8E6F4B32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0DE-640E-4B00-87B6-ECB3AD63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7F5-8F6A-4E79-8974-E669B077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76C-AF3B-4838-8B64-A648ECD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317-2CD6-4C27-8177-696738E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B1B-7D96-41A7-A879-4F5360FC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C93-FE4E-432B-B685-0C83980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BC0-2534-444A-B421-62FC38B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9CB-90C9-460A-B318-2E21E52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62D-ACA9-4B4D-81C8-8F0DC8C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8E61-F7E4-4D74-957B-DD8D02D9B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