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83677"/>
        <c:axId val="77616787"/>
      </c:barChart>
      <c:catAx>
        <c:axId val="97783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6787"/>
        <c:crosses val="autoZero"/>
        <c:auto val="1"/>
        <c:lblAlgn val="ctr"/>
        <c:lblOffset val="100"/>
        <c:noMultiLvlLbl val="0"/>
      </c:catAx>
      <c:valAx>
        <c:axId val="77616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3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DFC-EED9-49FA-8E4F-282C55AB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54E-90DC-4D99-891A-8AD4772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582-E410-4B74-90C6-0B05C74D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5A3-0BC1-4C88-86FE-423F982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9CD-B6DB-4DE6-A8C7-C3AF220D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91E-F84F-4799-9DEF-6F9D70A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41E-55CD-438C-BCFB-BD3A855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827-423C-4487-913C-BF948FD7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917-86C7-4FDA-8713-4E74793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E2B-9842-47EE-8674-CC3B57F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252-2D53-45C2-AC09-C559AC6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947-BC75-411D-9E98-0FEF6ADB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1187-9CC3-4545-A5E5-12EA4FC804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