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59410"/>
        <c:axId val="60756412"/>
      </c:barChart>
      <c:catAx>
        <c:axId val="95359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56412"/>
        <c:crosses val="autoZero"/>
        <c:auto val="1"/>
        <c:lblAlgn val="ctr"/>
        <c:lblOffset val="100"/>
        <c:noMultiLvlLbl val="0"/>
      </c:catAx>
      <c:valAx>
        <c:axId val="60756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59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FC3-FD41-40F4-8707-D0320C08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451-C17E-491A-8B5E-A42E21DA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EB3-838A-49AE-9397-669C4ED8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C3F-8C67-4DB0-B897-CA240229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A30-F751-4BB1-BC73-FAB5AAFB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434-B742-41C4-AB91-58904D48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38A-D7D1-47D3-9DFF-7B9FEC86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6C5-931A-43D7-93BD-B30A7F82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FDB-315E-44FA-8A23-88EBE1E5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1C6-69C8-4A88-870A-A45781A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D87-EB38-4C05-82D7-E7214D2A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7BB-7B66-4440-9CA5-7DDAB197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F760F-5BEA-462C-9C99-B1FBD9B421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