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84577"/>
        <c:axId val="27785884"/>
      </c:barChart>
      <c:catAx>
        <c:axId val="108845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85884"/>
        <c:crosses val="autoZero"/>
        <c:auto val="1"/>
        <c:lblAlgn val="ctr"/>
        <c:lblOffset val="100"/>
        <c:noMultiLvlLbl val="0"/>
      </c:catAx>
      <c:valAx>
        <c:axId val="277858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845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6BCC-DFBA-4B36-A80A-F84557D2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24E5-E590-4105-8A64-D8445E38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A6B-8A7E-4ED7-A52B-B2EE35AA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CA2E-3E95-46C1-AF59-EA33082F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912-A18D-4D13-8391-FBCF6A01E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A7A-9ABB-43A6-9AB8-32BC9E91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45C-5D51-4C2A-9987-4B08FFE4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3356-9F81-446A-AB2C-FAEDC907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4A9B-4E04-42CF-8BB2-1A63F789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4A7D-4F9A-4CF2-AF8C-B7954F88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FBB8-778A-4A94-9770-2D56C8D1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F227-56A3-43BD-87F0-3AF49A9A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42A8C-6C8C-4E2C-82F1-47154B7EB9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