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649408"/>
        <c:axId val="30521150"/>
      </c:barChart>
      <c:catAx>
        <c:axId val="536494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21150"/>
        <c:crosses val="autoZero"/>
        <c:auto val="1"/>
        <c:lblAlgn val="ctr"/>
        <c:lblOffset val="100"/>
        <c:noMultiLvlLbl val="0"/>
      </c:catAx>
      <c:valAx>
        <c:axId val="305211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6494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1C20-682F-425A-ADF2-BAF968951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FC41-A951-477C-941C-8CEBA887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19FF-323D-45AE-AA00-61C3CC119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66E5-3729-4067-AB0D-D8717EDED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9082-ADA1-44FE-AD64-436CCEF1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355E-4BAF-4EED-8251-515CA424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B117-7F76-44C5-813B-013D089B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0731-2164-4380-8A30-B71A661C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4EBE-246A-4CCF-8D8B-6946A2BE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E8E1-522D-48F4-B407-4509711E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3DFD-5184-48CF-BD8B-C6E1875C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F342-0D33-4A54-AFAF-FB125BD2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32182C-E43B-41F6-A703-608F66EA52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