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53550"/>
        <c:axId val="42710604"/>
      </c:barChart>
      <c:catAx>
        <c:axId val="45853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10604"/>
        <c:crosses val="autoZero"/>
        <c:auto val="1"/>
        <c:lblAlgn val="ctr"/>
        <c:lblOffset val="100"/>
        <c:noMultiLvlLbl val="0"/>
      </c:catAx>
      <c:valAx>
        <c:axId val="42710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53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5A5-8E5E-4A13-966F-5A81126F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ECB-1329-4B59-8060-596A286D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23D-3A90-45D6-88B1-D13AB3D7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ECC-D444-40C4-BACF-3BD4901D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ACC-0A99-407F-967C-AF9FB7BD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5A1-440B-480D-A3FE-CAA5B7CA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CA0-2323-4419-9774-BF0219BA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551-D78C-46CE-8050-C8EFE1C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EA1-B4CD-4F00-A1ED-759B6F97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8D9-2A0D-48D4-8996-2C773C8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E98-269B-4096-A0DB-C4C3E734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258-8C0F-48A9-B851-7A71A22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CA534-FCC6-40F3-9782-A73F641482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