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69619"/>
        <c:axId val="84062317"/>
      </c:barChart>
      <c:catAx>
        <c:axId val="178696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62317"/>
        <c:crosses val="autoZero"/>
        <c:auto val="1"/>
        <c:lblAlgn val="ctr"/>
        <c:lblOffset val="100"/>
        <c:noMultiLvlLbl val="0"/>
      </c:catAx>
      <c:valAx>
        <c:axId val="840623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696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8E06-BFD6-4E6D-BA09-A6DA0AEF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412-16DD-4F24-B48F-76AC916A7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2665-BD60-49A9-9143-ABC27ECF7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6416-8FBD-4399-9186-27E75796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18B-6401-4017-BF77-2FC47D68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E662-0581-4D6D-9D40-40D8362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6D7-2927-4930-8999-6FCC3AC6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984-49CA-4212-A859-34219A9B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302-F25C-4BA8-BF29-735978D5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1B9-B076-4A6E-A432-B2770770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6CB-C9B9-4568-8475-102918D0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F6A-2070-48A8-AEF3-1C8C7A52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4551A-1C6B-4087-9E35-64FAD2652B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