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742177"/>
        <c:axId val="37287657"/>
      </c:barChart>
      <c:catAx>
        <c:axId val="617421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87657"/>
        <c:crosses val="autoZero"/>
        <c:auto val="1"/>
        <c:lblAlgn val="ctr"/>
        <c:lblOffset val="100"/>
        <c:noMultiLvlLbl val="0"/>
      </c:catAx>
      <c:valAx>
        <c:axId val="372876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421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36CE-37D0-4EFE-8464-3A711DEC9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A191-8944-492B-BA0B-01230277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CFF5-6D14-450F-9CB8-FD69B4C42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D113-852A-450B-920B-51ACFCC9F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8C0B-1C40-4BAF-AC38-D30DA7FB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A45C-19FB-4305-9053-A59936B6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8D4B-54DE-40CD-8FAF-0AE8D47C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4AB1-AEE5-44BE-B172-30F588E3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F137-DCD1-423B-8042-FD61E6B2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A9A7-FA62-4BB8-9EE7-E0E7DD29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0F0D-EAE3-4196-81DC-3B51744E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A6B4-63C9-4361-917C-39D14BF9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EFB7E-0B44-4315-B215-207E11652C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